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BF9-595C-4973-9C58-5D3694EB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909-A153-4264-ADAC-24AE2410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120B-6A74-4E84-A7B4-BE104C56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4B7-2A86-434E-A692-273422F1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7BFD-DA54-4839-80DA-8E199081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736B-9761-4726-AC81-1BCDCFB7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F945-1BE8-4815-9F34-06DD3DCB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C190-7AE2-4305-8513-2729E0C1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116E-2C05-4649-9B27-6C7B1A7B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7F34-1EC1-4CC2-B8AE-AF034452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8C64-E13E-4BDC-8FE7-061EE3E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DFC-28FE-410D-89C3-28DFD256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1EBA-EA60-4BA4-B1D4-A9F5BEF6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3867-34E1-441A-943D-61363633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A1D6-A632-4CB5-B3D8-A1AC1DA0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AAF7-3946-480F-B402-43ED9C27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1573-EC8B-4228-8921-02812E3B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0B215-99CA-4413-B333-1695E4A8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41F4-9E11-43C0-BEB8-1BAF06FE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465EE-CD88-4D36-9D9B-A238B547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136A6-6BCD-4EB0-8134-AA9106A7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26773-9DC8-45C3-B052-1D17DD6E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0C6-3902-462D-A116-E6E5B797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57CF9-3A18-426D-AEFD-DD5A2A95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23CC6-0B0A-4191-9A21-CD864B00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AE2CC-EC7B-4FF3-B79B-F624C572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14442-2104-4E4F-AC00-43B7A34F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AF323-40DB-4445-8434-2A1F7E49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4C2E-7F4E-4436-87AC-9DBE6883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CCC2B-C677-4DB8-A704-BF19ED49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0595B-E91B-4544-9807-A2925164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4DC76-41EB-43B3-932F-4CD54438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08C26-EB18-4B42-8873-B3781F22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1DA-F81E-4AB7-84A3-E66340B5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9B17E-85BC-4D3F-8A13-620C7333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8EC03-F153-4BF7-B526-E49F25C8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13754-819B-4F07-B0F0-87142251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40A3E-26CB-4C97-808C-2E073335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67188-4EEE-4844-AC19-C3266D59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CE56B-F8A6-41EF-AE9D-E50C84A5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0EFDE-E73C-4454-9ADD-61EB547B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E2042-6517-44DD-B885-DA410F03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5B168-357E-4A4E-B7B6-1BF32191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3725D-170F-48CB-AA32-F5EDD5E2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A28-1500-4ED0-8E45-F78F13E4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FAA6A-3662-41D7-B659-9797F63B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6E792-555A-49A5-B3EF-DBB52E81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8C2C5-B204-4698-9786-09FAD548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89DD8-0DB6-4673-8CC1-AA2D815A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6446D-BB0E-4D97-AFFF-C5EB61EF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CD531-F43B-459B-A3C1-2B910F48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640C9-8072-4CE1-9811-5C85D8EE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34D07-CD7B-4A49-9FE9-4D09B1C8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A6222-9B39-475B-BCDC-D7CE667C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2FBAB-A68A-491B-880C-CEC00291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E12-065F-4B4B-9578-1EEDF04D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72FFF-F0FA-4042-8382-C8577F8C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07B-3BBF-48DC-8190-39F67CC8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1056-0B8A-48F9-AAE5-54D674A1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2C6-D5BC-4FDA-9607-F56ECC72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30D0-FC67-40E7-B74E-00494C8FB059}" type="slidenum">
              <a:rPr b="0" lang="en-C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3754-C058-4BEF-8CCF-4C4992128D09}" type="slidenum">
              <a:rPr b="0" lang="en-CA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3F92-0FB0-4D37-A2E9-D224CEAC010E}" type="slidenum">
              <a:rPr b="0" lang="en-C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86F0-C0D6-4913-849E-367E30E79DAA}" type="slidenum">
              <a:rPr b="0" lang="en-CA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F48B-00D8-4977-9B38-60EF90C61D1D}" type="slidenum">
              <a:rPr b="0" lang="en-C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arandgame.files.wordpress.com/2008/06/congress-of-vienna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upload.wikimedia.org/wikipedia/commons/a/ab/Ferdinand_I%3B_Keizer_van_Oostenrijk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Flag_of_Austri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Title 1" descr=""/>
          <p:cNvPicPr/>
          <p:nvPr/>
        </p:nvPicPr>
        <p:blipFill>
          <a:blip r:embed="rId3"/>
          <a:stretch/>
        </p:blipFill>
        <p:spPr>
          <a:xfrm>
            <a:off x="3352680" y="993600"/>
            <a:ext cx="5389560" cy="2883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357720" y="428580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rebuchet MS"/>
              </a:rPr>
              <a:t>By: Victoria and Shandr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Due to the fact that the emperor had very strong conservative views, liberalism activities would be immediately stifl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The emperors laws were organized is a way that showed his fear of liberalism as well as nationalis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beralism was at its peak in the 1848 revolution, when civil liberty and written constitution were key demands of the revolutionary move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ustrian government was threatened deeply by nationalism of its provinces especially the slav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This is because the country is made up of several nationalities which could cause conflict between provinc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This put fear into the government because if conflict were to arise, then the country could very well be torn apart due to this nationalis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ustria had no overseas colon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It did however have many provinces that it controlled throughout Europe itself such as Poland, Croatia, Romania, and Slovak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3" descr="austhung.gif"/>
          <p:cNvPicPr/>
          <p:nvPr/>
        </p:nvPicPr>
        <p:blipFill>
          <a:blip r:embed="rId2"/>
          <a:stretch/>
        </p:blipFill>
        <p:spPr>
          <a:xfrm>
            <a:off x="1428840" y="3357720"/>
            <a:ext cx="45813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They had very extensive railway syste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3" descr="800px-Hungarian_railway_system.svg.png"/>
          <p:cNvPicPr/>
          <p:nvPr/>
        </p:nvPicPr>
        <p:blipFill>
          <a:blip r:embed="rId2"/>
          <a:stretch/>
        </p:blipFill>
        <p:spPr>
          <a:xfrm>
            <a:off x="0" y="2071800"/>
            <a:ext cx="76201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In 1843, the population had risen to about 37.5 million people which was 40% more than in 179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This is important because the country had a sufficient labour for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Railways were now extensive enough that they could transport people from town to town on daily busin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This also would improve the transportation of goods from city to c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Metternich_by_Lawrence.jpeg"/>
          <p:cNvPicPr/>
          <p:nvPr/>
        </p:nvPicPr>
        <p:blipFill>
          <a:blip r:embed="rId1"/>
          <a:stretch/>
        </p:blipFill>
        <p:spPr>
          <a:xfrm>
            <a:off x="6715080" y="1000080"/>
            <a:ext cx="1928880" cy="2552760"/>
          </a:xfrm>
          <a:prstGeom prst="rect">
            <a:avLst/>
          </a:prstGeom>
          <a:ln w="0">
            <a:noFill/>
          </a:ln>
        </p:spPr>
      </p:pic>
      <p:pic>
        <p:nvPicPr>
          <p:cNvPr id="256" name="Title 1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28760" y="1643040"/>
            <a:ext cx="72388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rebuchet MS"/>
              </a:rPr>
              <a:t>Metternich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c6c6c"/>
                </a:solidFill>
                <a:latin typeface="Trebuchet MS"/>
              </a:rPr>
              <a:t>Lead the Congress of Vienna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c6c6c"/>
                </a:solidFill>
                <a:latin typeface="Trebuchet MS"/>
              </a:rPr>
              <a:t>Restored the old regime of monarchies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c6c6c"/>
                </a:solidFill>
                <a:latin typeface="Trebuchet MS"/>
              </a:rPr>
              <a:t>Had the ideas for legitimacy of rulers and also for balance of power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c6c6c"/>
                </a:solidFill>
                <a:latin typeface="Trebuchet MS"/>
              </a:rPr>
              <a:t>Minister for Austria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Economic depression due to rise in food prices from poor harve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1848 Revolution breaks out in Vien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ll parts of the empire were striving for autonomy and independen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ustria wanted a representative govern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Metternich resigned and universal male suffrage was pass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Prince Felix con Schwarzenberg replaced Metternich and convinced Ferdinand I to abdicate and leave the throne to his son Franz Josef 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ustria-Hungary had 3 armies, the Austria and Hungary armies and there was also an imperial arm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lthough they had the capability to mobilize about 2 million men, that was a relatively small amount compared to other countries like Fran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They used propaganda to expand the size of the army during times of need during w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"1848 Timeline." </a:t>
            </a:r>
            <a:r>
              <a:rPr b="0" i="1" lang="en-CA" sz="1600" spc="-1" strike="noStrike">
                <a:solidFill>
                  <a:srgbClr val="000000"/>
                </a:solidFill>
                <a:latin typeface="Trebuchet MS"/>
              </a:rPr>
              <a:t>Chico Unified School District - CUSD Main - CUSD Homepage - CUSD Homepage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. Web. 17 Feb. 2010. &lt;http://www.cusd.chico.k12.ca.us/~bsilva/projects/revs/1848time.html&gt;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"Austria - Domestic Policies." </a:t>
            </a:r>
            <a:r>
              <a:rPr b="0" i="1" lang="en-CA" sz="1600" spc="-1" strike="noStrike">
                <a:solidFill>
                  <a:srgbClr val="000000"/>
                </a:solidFill>
                <a:latin typeface="Trebuchet MS"/>
              </a:rPr>
              <a:t>Country Data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. Web. 17 Feb. 2010. &lt;http://www.country-data.com/cgi-bin/query/r-788.html&gt;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"Austria - The The Congress of Vienna." </a:t>
            </a:r>
            <a:r>
              <a:rPr b="0" i="1" lang="en-CA" sz="1600" spc="-1" strike="noStrike">
                <a:solidFill>
                  <a:srgbClr val="000000"/>
                </a:solidFill>
                <a:latin typeface="Trebuchet MS"/>
              </a:rPr>
              <a:t>Country Studies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. Web. 17 Feb. 2010. &lt;http://countrystudies.us/austria/20.htm&gt;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"Congress of Vienna -." </a:t>
            </a:r>
            <a:r>
              <a:rPr b="0" i="1" lang="en-CA" sz="1600" spc="-1" strike="noStrike">
                <a:solidFill>
                  <a:srgbClr val="000000"/>
                </a:solidFill>
                <a:latin typeface="Trebuchet MS"/>
              </a:rPr>
              <a:t>Wikipedia, the free encyclopedia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. Web. 16 Feb. 2010. &lt;http://en.wikipedia.org/wiki/Congress_of_Vienna&gt;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"Counts, Dukes, Kings &amp; Emperors: Rulers of Austria." </a:t>
            </a:r>
            <a:r>
              <a:rPr b="0" i="1" lang="en-CA" sz="1600" spc="-1" strike="noStrike">
                <a:solidFill>
                  <a:srgbClr val="000000"/>
                </a:solidFill>
                <a:latin typeface="Trebuchet MS"/>
              </a:rPr>
              <a:t>Austria Sightseeing Guide &amp; Travel Information: TourMyCountry.com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. Web. 17 Feb. 2010. &lt;http://www.tourmycountry.com/austria/monarchy.htm&gt;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Duiker, William J. </a:t>
            </a:r>
            <a:r>
              <a:rPr b="0" i="1" lang="en-CA" sz="1600" spc="-1" strike="noStrike">
                <a:solidFill>
                  <a:srgbClr val="000000"/>
                </a:solidFill>
                <a:latin typeface="Trebuchet MS"/>
              </a:rPr>
              <a:t>World history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. 4th ed. Vol. Comprehensive. Belmont, CA: Thomson/Wadsworth, 2004. Print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"File:Hungarian railway system.svg -." </a:t>
            </a:r>
            <a:r>
              <a:rPr b="0" i="1" lang="en-CA" sz="1600" spc="-1" strike="noStrike">
                <a:solidFill>
                  <a:srgbClr val="000000"/>
                </a:solidFill>
                <a:latin typeface="Trebuchet MS"/>
              </a:rPr>
              <a:t>Wikipedia, the free encyclopedia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. Web. 17 Feb. 2010. &lt;http://en.wikipedia.org/wiki/File:Hungarian_railway_system.svg&gt;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"Metternich." </a:t>
            </a:r>
            <a:r>
              <a:rPr b="0" i="1" lang="en-CA" sz="1600" spc="-1" strike="noStrike">
                <a:solidFill>
                  <a:srgbClr val="000000"/>
                </a:solidFill>
                <a:latin typeface="Trebuchet MS"/>
              </a:rPr>
              <a:t>World History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. Web. 17 Feb. 2010. &lt;http://www.hyperhistory.com/online_n2/people_n2/persons6_n2/metternich.html&gt;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rebuchet MS"/>
              </a:rPr>
              <a:t>"Causes of World War One." </a:t>
            </a:r>
            <a:r>
              <a:rPr b="0" i="1" lang="en-CA" sz="2400" spc="-1" strike="noStrike">
                <a:solidFill>
                  <a:srgbClr val="000000"/>
                </a:solidFill>
                <a:latin typeface="Trebuchet MS"/>
              </a:rPr>
              <a:t>History on the Net Main Page</a:t>
            </a:r>
            <a:r>
              <a:rPr b="0" lang="en-CA" sz="2400" spc="-1" strike="noStrike">
                <a:solidFill>
                  <a:srgbClr val="000000"/>
                </a:solidFill>
                <a:latin typeface="Trebuchet MS"/>
              </a:rPr>
              <a:t>. Web. 17 Feb. 2010. &lt;http://www.historyonthenet.com/WW1/causes.htm&gt;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rebuchet MS"/>
              </a:rPr>
              <a:t>"Austrian Imperial Army." </a:t>
            </a:r>
            <a:r>
              <a:rPr b="0" i="1" lang="en-CA" sz="2400" spc="-1" strike="noStrike">
                <a:solidFill>
                  <a:srgbClr val="000000"/>
                </a:solidFill>
                <a:latin typeface="Trebuchet MS"/>
              </a:rPr>
              <a:t>Spartacus Educational - Home Page</a:t>
            </a:r>
            <a:r>
              <a:rPr b="0" lang="en-CA" sz="2400" spc="-1" strike="noStrike">
                <a:solidFill>
                  <a:srgbClr val="000000"/>
                </a:solidFill>
                <a:latin typeface="Trebuchet MS"/>
              </a:rPr>
              <a:t>. Web. 16 Feb. 2010. &lt;http://www.spartacus.schoolnet.co.uk/FWWaustriaA.htm&gt;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rebuchet MS"/>
              </a:rPr>
              <a:t>"RP's History Online - Industrialization." </a:t>
            </a:r>
            <a:r>
              <a:rPr b="0" i="1" lang="en-CA" sz="2400" spc="-1" strike="noStrike">
                <a:solidFill>
                  <a:srgbClr val="000000"/>
                </a:solidFill>
                <a:latin typeface="Trebuchet MS"/>
              </a:rPr>
              <a:t>Hlavní strana - Radio Praha</a:t>
            </a:r>
            <a:r>
              <a:rPr b="0" lang="en-CA" sz="2400" spc="-1" strike="noStrike">
                <a:solidFill>
                  <a:srgbClr val="000000"/>
                </a:solidFill>
                <a:latin typeface="Trebuchet MS"/>
              </a:rPr>
              <a:t>. Web. 16 Feb. 2010. &lt;http://archiv.radio.cz/history/history08.html&gt;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rebuchet MS"/>
              </a:rPr>
              <a:t>"WHKMLA : History of Austria : Foreign Policy, 1815-1848." </a:t>
            </a:r>
            <a:r>
              <a:rPr b="0" i="1" lang="en-CA" sz="2400" spc="-1" strike="noStrike">
                <a:solidFill>
                  <a:srgbClr val="000000"/>
                </a:solidFill>
                <a:latin typeface="Trebuchet MS"/>
              </a:rPr>
              <a:t>Zentrale f</a:t>
            </a:r>
            <a:r>
              <a:rPr b="0" lang="en-CA" sz="2400" spc="-1" strike="noStrike">
                <a:solidFill>
                  <a:srgbClr val="000000"/>
                </a:solidFill>
                <a:latin typeface="Trebuchet MS"/>
              </a:rPr>
              <a:t>. Web. 17 Feb. 2010. &lt;http://www.zum.de/whkmla/region/germany/au181548for.html&gt;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congress-of-vien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29200" y="4857840"/>
            <a:ext cx="2857680" cy="1859040"/>
          </a:xfrm>
          <a:prstGeom prst="rect">
            <a:avLst/>
          </a:prstGeom>
          <a:ln w="0">
            <a:noFill/>
          </a:ln>
        </p:spPr>
      </p:pic>
      <p:pic>
        <p:nvPicPr>
          <p:cNvPr id="224" name="Title 1" descr=""/>
          <p:cNvPicPr/>
          <p:nvPr/>
        </p:nvPicPr>
        <p:blipFill>
          <a:blip r:embed="rId3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75800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rebuchet MS"/>
              </a:rPr>
              <a:t>Took place in Vienna of Austria after Napoleons rule to put Europe back together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rebuchet MS"/>
              </a:rPr>
              <a:t>Emerged as one of the strongest powers in Europe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rebuchet MS"/>
              </a:rPr>
              <a:t>Regained all of the land that it had before Napoleon's reign, also gained more land from Russia and Italy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rebuchet MS"/>
              </a:rPr>
              <a:t>The Holy Roman Empire had collapsed and</a:t>
            </a: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 formed the German Confederation which was lead by Austria and Prussia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28760" y="1714680"/>
            <a:ext cx="72388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Balance of power in Europe was made uneven in Europe after the unification of German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ustria was considered one of the stronger Countr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Franz I of Austria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806-183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erdinand I 1835-1848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ranz Josef I 1848-1916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l considered legitimate rulers due to the fact that they are all under the line of the Habsburg Dynasty which extends all the way back to 1273 with Rudolf 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3" descr="Ferdinand_I;_Keizer_van_Oostenrij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43720" y="4214880"/>
            <a:ext cx="1928520" cy="2469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franz3-00.jpg"/>
          <p:cNvPicPr/>
          <p:nvPr/>
        </p:nvPicPr>
        <p:blipFill>
          <a:blip r:embed="rId4"/>
          <a:stretch/>
        </p:blipFill>
        <p:spPr>
          <a:xfrm>
            <a:off x="857160" y="4643280"/>
            <a:ext cx="1354320" cy="20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rebuchet MS"/>
              </a:rPr>
              <a:t>Dual Alliance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c6c6c"/>
                </a:solidFill>
                <a:latin typeface="Trebuchet MS"/>
              </a:rPr>
              <a:t>Germany and Austria promised to protect each other against Russi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rebuchet MS"/>
              </a:rPr>
              <a:t>Austro-Serbian Alliance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c6c6c"/>
                </a:solidFill>
                <a:latin typeface="Trebuchet MS"/>
              </a:rPr>
              <a:t>Alliance with Serbia to keep Russia from gaining control of i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rebuchet MS"/>
              </a:rPr>
              <a:t>Triple Alliance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c6c6c"/>
                </a:solidFill>
                <a:latin typeface="Trebuchet MS"/>
              </a:rPr>
              <a:t>Austria and Germany made an alliance with Italy to stop it from taking sides with Russi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560"/>
            <a:ext cx="6329520" cy="40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700" spc="-1" strike="noStrike">
                <a:solidFill>
                  <a:srgbClr val="000000"/>
                </a:solidFill>
                <a:latin typeface="Trebuchet MS"/>
              </a:rPr>
              <a:t>Returned to a monarchy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700" spc="-1" strike="noStrike">
                <a:solidFill>
                  <a:srgbClr val="000000"/>
                </a:solidFill>
                <a:latin typeface="Trebuchet MS"/>
              </a:rPr>
              <a:t>Dual monarchy established with Hungary in 1876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700" spc="-1" strike="noStrike">
                <a:solidFill>
                  <a:srgbClr val="000000"/>
                </a:solidFill>
                <a:latin typeface="Trebuchet MS"/>
              </a:rPr>
              <a:t>Each part had its own </a:t>
            </a: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legislature, constitution, and capital but had one emperor, Franz Josef I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3" descr="f677824a.jpg"/>
          <p:cNvPicPr/>
          <p:nvPr/>
        </p:nvPicPr>
        <p:blipFill>
          <a:blip r:embed="rId2"/>
          <a:stretch/>
        </p:blipFill>
        <p:spPr>
          <a:xfrm>
            <a:off x="6000840" y="2786040"/>
            <a:ext cx="28573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Metternich was the main person at the Congress of Vienna and at his suggestion Carlsbad congress issued the Carlsbad decre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These included dispatched secret police to stifle democratic nationalists and press censorshi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Metternich sent many troops out to suppress revol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ustria supported French troops being sent by the congress of Verona to calm unrest in Spain and restore the old regime the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lthough Metternich had the high profile, it was really the emperor being conservative and his dislike for the ideas of the French Revolution that made the Domestic Polic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 new civil and penal code was issued in the early 19</a:t>
            </a:r>
            <a:r>
              <a:rPr b="0" lang="en-CA" sz="26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 centur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Politics and culture was kept under close watch to keep from spread of nationalism and liberalis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2" name="Content Placeholder 3" descr="dualmona.gif"/>
          <p:cNvPicPr/>
          <p:nvPr/>
        </p:nvPicPr>
        <p:blipFill>
          <a:blip r:embed="rId2"/>
          <a:stretch/>
        </p:blipFill>
        <p:spPr>
          <a:xfrm>
            <a:off x="214200" y="1500120"/>
            <a:ext cx="714384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3:56:30Z</dcterms:created>
  <dc:creator>Victoria</dc:creator>
  <dc:description/>
  <dc:language>en-US</dc:language>
  <cp:lastModifiedBy>ripkensa</cp:lastModifiedBy>
  <dcterms:modified xsi:type="dcterms:W3CDTF">2010-02-19T15:32:55Z</dcterms:modified>
  <cp:revision>39</cp:revision>
  <dc:subject/>
  <dc:title>Austria</dc:title>
</cp:coreProperties>
</file>